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BC73-CC1B-4D0D-9A8B-BD8092B6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8600" y="42303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F431-5D0C-4FC9-937A-A4AF5D96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888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6F8A-530F-4935-88CD-464368ED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914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286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914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542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A62E-2D91-42BC-8D8C-F9AE24AC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A6BE-AC83-4EC1-9715-EC450290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4578-6620-4DDF-8ADD-C27E59DE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80ED-B04C-48E9-A5C4-F6590E60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9C57-91D1-4E71-AD30-3E5D5F6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50C-C9DF-4DD5-91B6-E2A06DF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6108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B478-4544-4971-994B-3E8C45B4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7B20-AFC1-4429-BD20-A1E4D66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BD28-71A6-424F-BE15-D9D941F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888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1CF2-DE36-427E-B38C-D8B3B07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3951-C717-4531-A34E-A8C91842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600" y="42303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2004-CC99-40FD-8E2A-C1378920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888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281D-2A06-4AF6-AD5A-93C2807F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914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6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914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542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4CBA-DA57-479E-92B1-D53C2D84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5B57-C647-4941-90A2-8BF37FAA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9227-E45F-4B27-9D90-84634993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AF86-6C47-4CB3-92C1-778D9274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6108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3DCC-6987-438E-BFB2-C1BBCD75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8703-56BA-48A5-A25C-9A05CDE1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888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BEAF-E774-41B7-8284-AA98591F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C5F5-5662-4CE0-8F6E-0D56706B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9683-01DA-4FC2-9DC1-6FAE4D4D3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D2C-F0D3-4F24-8151-FE748A85B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71800" y="1980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ldlife Habitat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hat are the types of wildlife habitat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bitat for animal wildlife can be classified based on ecosys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systems are in areas known as biom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es are large areas with distinct combinations of animals and pl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676520" y="574560"/>
            <a:ext cx="554508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hat are habitat requirements for selected species of animal wildlife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dlife species have life requirements that must be met by their habitat to insure well-be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hat are the goals of habitat production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bitat management influences the kinds and diversity of species attracted to the ar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main goa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a habitat for a specific wildlife spec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habitats for many different wildlife spec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048120" y="0"/>
            <a:ext cx="54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21:05:50Z</dcterms:created>
  <dc:creator>Matt &amp; Faith Saxe</dc:creator>
  <dc:description/>
  <dc:language>en-US</dc:language>
  <cp:lastModifiedBy>Alicia Burge</cp:lastModifiedBy>
  <dcterms:modified xsi:type="dcterms:W3CDTF">2011-04-26T21:30:38Z</dcterms:modified>
  <cp:revision>31</cp:revision>
  <dc:subject/>
  <dc:title>Environmental Resources Cluster</dc:title>
</cp:coreProperties>
</file>